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401E-3265-4DCA-BAAF-9FC4D59F902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9D6D-2616-4F03-A950-EAC3867783B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98B9-A890-42F5-B9D9-073E1B52FF8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F196-C905-4B5D-A50D-656D20A1A7A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6BC1E7-0497-419D-8E9A-BCE992E0C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53B461-062E-417A-B262-447A9E52C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BE85ED-C143-4E9F-A267-0EBF7E31F4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3942E2-9E08-4454-90F5-C3BD2F4945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65CE4-3A3D-4F5F-AD73-6E10997EC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07206-3792-45B6-9572-A7E7D8F2E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D04CD-688B-430A-AA76-98F54A0B4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F7494-3396-4DF1-A1AA-D7B2C9764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51F47-8A2B-4314-81EE-898EBFB41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AF4F6-3E13-44A3-A1E1-4FD737E34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E555B-D581-47C7-BB91-38DCA238E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08C7BB-0A93-4BDB-8027-66E624499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8167A-7C10-49D4-BD95-052CE9A82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F0B01-A395-4A60-B92E-1F14C2F4C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8AF0F-4FDA-4E1D-A1E6-64A086E3D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46723-2AB6-4C46-8D29-433078397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080D8-83DA-491D-823B-A5E636F0C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1530FC-9DA9-41C7-A8DA-A7F9021C4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0C277F-793F-448A-B7B6-95E6CD538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4FF67C-3255-4828-96E4-0D29A48D1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0CBA93-9036-4DE4-8CD3-F132FF9CF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1504D4-9E1C-429F-9C56-E8DDE73B7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B3C4E0-FAFF-4A23-B7D1-D8311EF62E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90E9A0-693E-4837-944A-E88D197DAF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12D2-8285-47C9-AF07-369435F97A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32FD-7053-4E2A-8F0C-231866BA40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bs/hospitals_guidelines.Neonatal.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96FF-1B62-4D5A-867A-41CC70413A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8591-03E7-4B65-B8E6-E53586B0B3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715E-022A-4151-BF69-A7B5121BDB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0ED0-4C13-474E-90AF-C74CA6D3CA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0" name="Picture 4" descr="fig4"/>
          <p:cNvPicPr/>
          <p:nvPr/>
        </p:nvPicPr>
        <p:blipFill>
          <a:blip r:embed="rId1">
            <a:lum bright="-18000"/>
          </a:blip>
          <a:srcRect l="0" t="13996" r="0" b="38027"/>
          <a:stretch/>
        </p:blipFill>
        <p:spPr>
          <a:xfrm>
            <a:off x="1771560" y="1219320"/>
            <a:ext cx="5958000" cy="55260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A18C-5EEE-4FC7-9BA9-BA1ADD7674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3" name="Picture 4" descr="fig4"/>
          <p:cNvPicPr/>
          <p:nvPr/>
        </p:nvPicPr>
        <p:blipFill>
          <a:blip r:embed="rId1"/>
          <a:srcRect l="0" t="61979" r="0" b="0"/>
          <a:stretch/>
        </p:blipFill>
        <p:spPr>
          <a:xfrm>
            <a:off x="1257480" y="1523880"/>
            <a:ext cx="72547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42A9-C456-4AF1-878D-D30383A820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6"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050E-A1F9-4D7B-8A59-7ADEF05930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BB7D-EE23-4C40-ADC3-FC7DAFF4D9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2"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AFDE-1586-4447-B412-BF8369027B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5"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9160-F63E-4BC0-A507-3BECBA247D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A467-2DF3-43F9-A155-7615D16226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8,000 cases/year or 2/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600 cases/year or 0.6/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EE10-42B5-450A-9999-FBF44A0834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bs/hospitals_guidelines.Neonatal.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2DAC-2802-4B4D-93F5-759F12CDCB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540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328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472D-843B-4BF6-B42D-9AF618575D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87F4-91B1-45E4-969B-EA79C86F0D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5B8F-A313-4D14-B0C4-A561E941E1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ED52-0670-49CF-8955-272D4E89CD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368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5B45-9E79-4BCE-9159-9B83296D42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1312-6B0B-4390-A7C0-7FC527FB68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 chou</cp:lastModifiedBy>
  <dcterms:modified xsi:type="dcterms:W3CDTF">2010-06-20T21:21:25Z</dcterms:modified>
  <cp:revision>57</cp:revision>
  <dc:subject/>
  <dc:title>Group B Streptococcal Infections</dc:title>
</cp:coreProperties>
</file>